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10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3B78A54F-9705-446D-8453-F62152C9E588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C1C30132-C55F-45D3-A929-A9B827480833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5:1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5F23E09B-47F2-41BD-99E9-D7CC22A7256B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7A96BBF5-6CF9-41CF-BF1D-C2593469AEB3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5:1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03800" y="428760"/>
            <a:ext cx="34495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9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94080" y="6492960"/>
            <a:ext cx="595440" cy="33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960" y="730080"/>
            <a:ext cx="2651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Impact"/>
              </a:rPr>
              <a:t>Table of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162240" y="1273320"/>
          <a:ext cx="5180040" cy="3458880"/>
        </p:xfrm>
        <a:graphic>
          <a:graphicData uri="http://schemas.openxmlformats.org/drawingml/2006/table">
            <a:tbl>
              <a:tblPr/>
              <a:tblGrid>
                <a:gridCol w="5180040"/>
              </a:tblGrid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EP Valuation Policy                                                                                         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ation Summaries of BREP Funds and Related Proposed Write-ups / Downs                                                                                                                     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I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mmary of Investments Held at 9/30 /09  Valuations                                       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V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for Investments –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tel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                                                        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.   Domestic     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.   International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for Investments –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ffice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.   Domestic     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.   International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I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for Investments –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   Domestic    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276480">
                <a:tc>
                  <a:txBody>
                    <a:bodyPr lIns="6336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5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r" pos="50688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.   International                                         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2-02T21:04:57Z</dcterms:modified>
  <cp:revision>4875</cp:revision>
  <dc:subject/>
  <dc:title>Page Title</dc:title>
</cp:coreProperties>
</file>